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мет: Енглески је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авач: Душица Лаз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verbs in brackets into the correct te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she (give up) smoking? She (do) that rec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moment, he (make) plans how to carry out his important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ys ago, their friend (sprain) his ankle and he (must) go to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you (drive) when the accident (happe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tor (study) the case for the last 20 minutes, but he (not draw) any conclusion y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fessor said that he (wait) for that opportunity for a long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time tomorrow, my associates (work) on a new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oped no one (know) what (happen)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(finish) our research by the end of M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ести краћи текст на енглески јез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 of Drug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can be found on the website “Wikipedia – the free encyclopedi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to reme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ac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f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uc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oss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it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of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systemic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and 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nouns, adjectives and adverbs which are related to the verbs listed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word which is different from oth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ir           debilitate         enhance        deteri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       subdue           extinguish      in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nt      uncommon     dominant       widesp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tail           prolong           lessen          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ittent   recurrent        occasional     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     enduring        transient        perpe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at         rest                defy                strug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ct             inviolate        armed           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ntless     submissive    fierce             impla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psed      deterioration   regression   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ither the Gerund or the Infinitive of the verbs in brack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n’t your brother busy (translate) these scientific artic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with me; you will hear Professor Brown (speak) on alternative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n’t you got used to (work) in this instit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I’d better (tell) you how this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proud of (be) good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enjoy (take) short wal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has never heard anybody (play) this instrument so beauti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think he will succeed in (pass) his exa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djectives can be used to describe the following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ppropriate form of the words in brack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receptors give rise to direct (sensory) awar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ing is very important in the (prevent) of a dis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progress is being made in the (chemotherapy) treatment of (virus) dis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vaccines are usually considered (risk) to people who have a damaged immu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have diabetes but they are (aware) of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diagnose) on time, some diseases can lead to serious complications affecting various parts of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12-05-28T11:58:00Z</dcterms:modified>
  <cp:revision>19</cp:revision>
  <dc:subject/>
  <dc:title>Slide 1</dc:title>
</cp:coreProperties>
</file>